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526-8B8D-4A8F-8879-19E4BDEC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122-ED6B-4C8C-AF1C-390BA52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9F3-5F2D-49E4-A024-B28CB3D5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EF1-7830-4F00-840A-5624DED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218-AF48-4C1E-991C-585642A6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9553-F6B3-4500-AFC2-0DA12C1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B89B-41AD-44C6-886E-FDEF607C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59C-CA89-40B0-9047-10482BF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0920-B47D-4E05-AAE1-52B2AE1A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2852-979F-4F00-B5B5-00BF727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24C-1B08-425F-96E3-C8C2F10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74A-020C-4DC7-84D5-25FC1BF4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10FE-B7D1-42CF-8713-A3D0CE5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288-C0DA-44D6-BA11-8C8E8D58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85E-9ACF-4238-ACC7-20A00267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F4E3-62E7-445A-9025-56E5B046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BE9-90BD-4325-B28A-A4457D4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616-76F0-40FA-A509-9DCE958F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A5D-2C3F-4C25-8EE6-150F31F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A5E-4DDF-4CCF-9910-8D510EF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770-2D82-48DB-89CE-16987D2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03E-6494-4454-9655-512411A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C54-42A3-4E79-AE46-D73D7E8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6C6-446F-4922-84A4-4F8930A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FD7-8023-4FA4-82E9-6F9205A9B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809-0A5C-4A26-9B7E-9848F94F0B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ullacresta.it/squalo/Great%2520White%2520Shark%2520(2).jpg&amp;imgrefurl=http://bwyb.blogspot.com/2004_06_01_archive.html&amp;h=600&amp;w=800&amp;sz=60&amp;hl=en&amp;start=14&amp;tbnid=05oru6HkfRYl0M:&amp;tbnh=107&amp;tbnw=143&amp;prev=/images%3Fq%3Dsharks%26gbv%3D2%26hl%3Den%26sa%3D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APG/F102262~Intimidation-Sharks-Posters.jpg&amp;imgrefurl=http://www.allposters.com/-sp/Intimidation-Sharks-Posters_i374446_.htm&amp;h=450&amp;w=353&amp;sz=28&amp;hl=en&amp;start=29&amp;tbnid=l3KqU_uMJ-HgTM:&amp;tbnh=127&amp;tbnw=100&amp;prev=/images%3Fq%3Dsharks%26start%3D2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06.photobucket.com/albums/bb96/clairesgotsoul/blog/78027Great-White-Shark-Posters.jpg&amp;imgrefurl=http://soulchips.blogspot.com/2007/10/sharks_28.html&amp;h=450&amp;w=301&amp;sz=46&amp;hl=en&amp;start=73&amp;tbnid=R3nYiTPSrVYAdM:&amp;tbnh=127&amp;tbnw=85&amp;prev=/images%3Fq%3Dsharks%26start%3D6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s.igougo.com/images/p174501-Barcelona-Sharks.gif&amp;imgrefurl=http://photos.igougo.com/pictures-photos-r1176176-p174501-Sharks.html&amp;h=320&amp;w=480&amp;sz=106&amp;hl=en&amp;start=111&amp;tbnid=z6sczBoYO2PzHM:&amp;tbnh=86&amp;tbnw=129&amp;prev=/images%3Fq%3Dsharks%26start%3D10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feglobe.com/images/product/Sharks/sharks04_r2_c2.jpg&amp;imgrefurl=http://www.indiankey.com/shareware/Code/listing/ProgramDescription.asp%3FProgId%3D8906&amp;h=438&amp;w=579&amp;sz=48&amp;hl=en&amp;start=143&amp;tbnid=WBxT395K_OsoYM:&amp;tbnh=101&amp;tbnw=134&amp;prev=/images%3Fq%3Dsharks%26start%3D1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hark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00040" y="38858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John R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37339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 you think sharks are cool? Then check out my repor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9160" y="1600200"/>
            <a:ext cx="4211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58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arks can have 100 or 1,000 teeth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shark loses a tooth the one behind it come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ome men shave with shark teet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429000"/>
            <a:ext cx="236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f sharks stop swimming they will sink to the ocean floor and die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441520"/>
            <a:ext cx="807732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has to swim all the time even when the shark is sleeping at nigh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doesn’t stop swimming because it will sink and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3581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st dangerous shark is the Great White shark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white shark is big, white, and 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white shark has big teeth that sink into seals, and other fish even other sha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429000"/>
            <a:ext cx="3581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arks do not have smooth scales like other fish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has pointed scales and other fish do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ub your finger against a shark, it will cut your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0384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hope you hade a good time reading my report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9:25Z</dcterms:modified>
  <cp:revision>3</cp:revision>
  <dc:subject/>
  <dc:title>Animal Name</dc:title>
</cp:coreProperties>
</file>